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2B3-01A0-48C5-8D3B-C6D997CE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8D2-07DC-4108-B2A8-F537328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3901-CE60-4A79-B693-044FEDE8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05B6-D22F-4805-9063-AA01B2D5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28C-90CD-4E7D-9C9A-FA753CD7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8E1-5D70-4418-92E2-DEAF7E0D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736-A084-4736-A701-F565AB25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CF2-686A-4CB0-B1C1-520F5723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8AD-3B30-4524-A155-4FC8992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40E-9C63-4C78-9AFD-4581FBA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5A7-04F6-43EE-837F-DD498F56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E17-0A04-48E7-8EDC-3595547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1CB6-BB9A-4CC6-92F0-830483A831B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Qualitativ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eve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onceptual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reene (2000); Fenstermacher (1994); Cuban (1992); Noddings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 concept is examined from a new l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n action or condition is explored as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against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cus is a new understanding of the concept and/or a new way to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ction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Lewin (1940); Schon (1983); Kemmis, (1988); McNiff (198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dividuals examine their own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oal is change,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hallmark of profession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act, observe, refl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Ring the bells that still can 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rget your perfect off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re is a crack in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at’s how the light gets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856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onard Cohen, </a:t>
            </a:r>
            <a:r>
              <a:rPr b="0" i="1" lang="en-CA" sz="2800" spc="-1" strike="noStrike">
                <a:solidFill>
                  <a:srgbClr val="000000"/>
                </a:solidFill>
                <a:latin typeface="Calibri"/>
              </a:rPr>
              <a:t>An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Inquire, understand,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Deliberat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Made 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ubject to criticism (and defense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tenhouse, (19x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even approaches to inqui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Narrative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Phenomenolog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rounded theory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thnograph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ase study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nceptu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ctio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andinin and Connolly (2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stories lived and tol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ingle individ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mes, epiphanies, disruptions, silences, deco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enomenolog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van Manen (1990); Moustakas (199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“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grasp the very nature of the th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what do all participants have in common as they experience the phenomen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laser &amp; Strauss (1967); Charmaz (20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heory emerges from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xamines actions, interactions, soci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repositions autho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thnograph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Mead (1930); Wolcott (1999); Apple (199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detailed description of a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ulture-shar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nalysis of values and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ritical ethnography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– an advocacy persp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Denzin &amp; Lincoln (200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an issue examined via one or more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ases </a:t>
            </a: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 a bounded system (time, pl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cus is understanding the complexity of the </a:t>
            </a:r>
            <a:r>
              <a:rPr b="0" i="1" lang="en-CA" sz="3200" spc="-1" strike="noStrike">
                <a:solidFill>
                  <a:srgbClr val="0070c0"/>
                </a:solidFill>
                <a:latin typeface="Calibri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2:41:57Z</dcterms:created>
  <dc:creator>Elaine Decker</dc:creator>
  <dc:description/>
  <dc:language>en-US</dc:language>
  <cp:lastModifiedBy>Owner</cp:lastModifiedBy>
  <dcterms:modified xsi:type="dcterms:W3CDTF">2009-09-23T21:18:10Z</dcterms:modified>
  <cp:revision>17</cp:revision>
  <dc:subject/>
  <dc:title>Qualitative research</dc:title>
</cp:coreProperties>
</file>